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0F3A-A4B4-414A-9251-60451DB164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5AD5-CD5D-4923-AB19-9810A6B198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E001-E96C-422C-AB77-396793DCE4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776E-C199-4673-A6D8-E18168C4A5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AB5-698A-4CC2-BCD0-985441B1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F63-38C8-40B9-91D8-F2E4B842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008-26B4-4513-B199-CA9232F7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276-2FBD-4B3C-8BBC-C264C7FB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2DF-4B02-4D27-95A4-DAF8A0AC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2D0-9915-489E-9A67-549409B3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FDC-B53E-4724-9E8B-111C2F48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CA6-ED75-437B-9205-C2C7DFC4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892-EFFC-4A26-BF39-4B5AACC3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AB7-8E75-4F62-AE04-AC3012E4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6C1-38FC-4B75-AD66-06C1B25B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283-94A6-4330-B649-B72BD897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DA8B-BB06-4B33-9A99-DF2B8ED34B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Quiz about young people in the worl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600"/>
            </a:b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True or fals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ng people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Now check the facts from this infographic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924280"/>
            <a:ext cx="48355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ck on this lin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ttp://www.newint.org/features/2012/10/01/n456_infographic.jp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5519880" y="1844640"/>
            <a:ext cx="3311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youth2.jpg"/>
          <p:cNvPicPr/>
          <p:nvPr/>
        </p:nvPicPr>
        <p:blipFill>
          <a:blip r:embed="rId1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Linda Ruas</cp:lastModifiedBy>
  <dcterms:modified xsi:type="dcterms:W3CDTF">2014-05-26T20:29:14Z</dcterms:modified>
  <cp:revision>8</cp:revision>
  <dc:subject/>
  <dc:title>Youth</dc:title>
</cp:coreProperties>
</file>